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CA8-CE8C-4B20-BD21-EA4D628B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21A-C02C-497C-A535-21BE68B7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091-542A-4D7E-8BDF-647BE695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738-1615-42AA-ACF1-069CB8A5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C11E-84EF-4730-895D-4387EAF1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D352-66DD-4F13-8149-B7BBEB23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BA58-5D82-4DAB-A1C1-6F886A31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CCAB-20FB-4CA0-B626-FF0F6184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D7E5-91E0-464A-875E-9333A92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8EF9-76DD-421B-8DF7-AAB69611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28D3-28D5-461B-8781-6EA5F5DB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AD6-3DA4-4770-B84E-CD78F840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DC13-853B-49AE-A239-EE4DCC9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1A2A-6B04-40CF-BFB6-2596E77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BEE6-D837-4E3A-A9CF-A760BBAC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CF44-35CC-4B48-8743-D65B2CD5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7898-229F-4041-86E0-1EE2ADEA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89EF9-C567-4E76-9800-EE0CD73A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53A0C-AE2C-4B95-BA63-4AB6B63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44753-1E25-4D86-A9BB-FE9EE513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39B0A-ECDE-49D1-BB6C-75FABDFD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A30D3-D0DA-4325-91AF-AD92FC02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E08-D930-4865-A53E-C7444A23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E91FD-73E8-45C5-8540-A335C06C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EC858-3722-4B36-9F0F-CB6F136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1098A-2585-4865-8859-D42D5A96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20288-B232-49FC-8971-7A4EB109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051AA-E1A2-4088-BF23-685FC3D7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4E773-5259-49BD-B27A-B6CE6B4A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253C7-2B85-46B1-84DC-D1A1194C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3606F-394B-4562-A231-9A54F671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5FA6-D3F4-4E5C-B4AA-7CEFE44C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04A9-2867-4A7C-BD39-DFBAEEE2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2C6-89C9-401B-9338-2C2C4E81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B384-4138-47B8-A10A-2029771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8D34-8CFB-4372-BA10-2A1F3C90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F331-67CB-43BE-9531-66CC87D8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FBBDA-1BC5-456B-8A6C-3B858367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093E-7288-477C-8745-6DCC8A2C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8CEA-E9F8-47EC-9F6E-8BBF6856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7E705-BC6E-4EC7-83AE-1F673582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B1ED-97AB-4ABE-8945-759EABE4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E3E1-BEB7-43A7-BA0E-3FDF723A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80EB7-CD35-446F-9F39-2466A953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EC0-DF34-4FFB-BA0F-C7A18279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A2EE6-344C-4635-876B-DC2A34B9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33F61-D74F-4FB3-9E75-0B4BC028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64C73-77C7-4B79-828D-2082FFE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7ACC3-C68C-4A08-8D79-EC1C1268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2D6DA-0BAA-40FD-BB41-9B2B238C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1563D-63FE-447B-B4FC-C08737F1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4E170-F86C-486B-B5EE-6FFF010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AFBCF-9585-4F30-85F0-69D391D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ADB8D-D21E-4864-9383-0E06A7DD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29981-4ADA-41E6-9570-0A0F5036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4C4-2AE8-4342-963C-69F7E27E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5AF70-44E6-43B3-A624-B5F55590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2BCB8-0939-494D-B78E-6BA321BC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3C753-ECB7-488A-A92B-75D31946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AA425-305B-43C8-AFBE-6E7B16D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49241-DEF9-42E5-9768-6F004BC2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6CA97-2219-475A-89C9-A500DF2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899BD-AD97-48BA-A345-5FBBD137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241CF-BDF8-4992-B326-D4C5A9D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46AF2-B524-4925-8983-F2BA95B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945C9-09DD-4DE8-A237-F79D875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4D5-F6A7-4D01-B2FC-AB2BD6D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EB5D6-2657-4A02-9E10-2869F4AD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0460D-3AD2-41AF-81F9-EEC23F30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62BB3-B06C-4756-AC23-F06FC51D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CBC5A-509D-4A7D-BE1E-957724A5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63396-4771-43EE-87FA-405B43E2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B131E-8480-485A-A8E4-829E9162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75915-1852-4806-A8C5-9ADB8354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8DA55-7E25-4BE7-92A8-43F19A2C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905D0-0BA1-4EC5-9240-95B56580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AD5D6-7582-4426-99D6-CAA70530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388-88E2-4ED2-9FA0-B642CCC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C71F0-BF1F-4D06-8440-5C186FE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59B2C-C2E1-4BBA-9E37-04FA84F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5EF2D-A563-4FAD-BABB-34D9069F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B3DFD-8D5F-455C-B38D-CFE78C07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99572-C928-4A9F-9846-D4C9F140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B33-07D7-46D2-A8BE-8FD3CF8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5FC4-3B4F-400F-ADA0-4692A0F7EE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41C-FFAB-4CF9-ABFE-1265DB375F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4595-4564-4939-A0FE-59551FB079E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9037-FCAD-47B6-BC04-C96F2020E0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1A3B-A3F3-4061-81EC-AD4AE3BD36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4EED-8B91-48CF-BEBB-A888516B664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98A0-9F5A-445F-9D4F-2532C651432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6;&#1085;&#1080;&#1082;&#1072;_(&#1090;&#1086;&#1088;&#1075;&#1086;&#1074;&#1072;&#1103;_&#1084;&#1072;&#1088;&#1082;&#1072;)" TargetMode="External"/><Relationship Id="rId2" Type="http://schemas.openxmlformats.org/officeDocument/2006/relationships/hyperlink" Target="http://ru.wikipedia.org/wiki/PlayStation" TargetMode="External"/><Relationship Id="rId3" Type="http://schemas.openxmlformats.org/officeDocument/2006/relationships/hyperlink" Target="http://ru.wikipedia.org/wiki/PlayStation_Portable" TargetMode="External"/><Relationship Id="rId4" Type="http://schemas.openxmlformats.org/officeDocument/2006/relationships/hyperlink" Target="http://ru.wikipedia.org/wiki/PlayStation_3" TargetMode="External"/><Relationship Id="rId5" Type="http://schemas.openxmlformats.org/officeDocument/2006/relationships/hyperlink" Target="http://ru.wikipedia.org/wiki/PlayStation_Portable" TargetMode="External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90-&#1077;" TargetMode="External"/><Relationship Id="rId2" Type="http://schemas.openxmlformats.org/officeDocument/2006/relationships/hyperlink" Target="http://ru.wikipedia.org/w/index.php?title=Steepler&amp;action=edit&amp;redlink=1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356920" y="4357440"/>
            <a:ext cx="6172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Группа: 63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Авторы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Добрынина Анастасия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Козлова Капитолина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365120" y="1163520"/>
            <a:ext cx="7529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2571480"/>
            <a:ext cx="7467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свободная </a:t>
            </a: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развивающая 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деятельность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 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творческий характер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эмоциональная приподнятость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наличие </a:t>
            </a: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прямых или косвенных </a:t>
            </a:r>
            <a:r>
              <a:rPr b="1" i="1" lang="ru-RU" sz="3200" spc="-1" strike="noStrike">
                <a:solidFill>
                  <a:srgbClr val="e75c01"/>
                </a:solidFill>
                <a:latin typeface="Century Schoolbook"/>
              </a:rPr>
              <a:t>правил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857160" y="64296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Century Schoolbook"/>
              </a:rPr>
              <a:t>Большинству игр присущи четыре главные черты (по С.А.Шмакову)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Century Schoolbook"/>
              </a:rPr>
              <a:t>ТАКИМ ТРЕБОВАНИЯМ ОТВЕЧАЕТ…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Игровая приставка </a:t>
            </a:r>
            <a:r>
              <a:rPr b="0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— 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специализированное электронное устройство, разработанное и созданное для видеоигр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5c01"/>
                </a:solidFill>
                <a:latin typeface="Century Schoolbook"/>
              </a:rPr>
              <a:t>ИСТОРИЯ РАЗВИТИЯ ИГРОВЫХ ТЕХНОЛОГИЙ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9680" y="1571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На примерах игровых приставок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«</a:t>
            </a: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Электроника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»,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e75c01"/>
                </a:solidFill>
                <a:uFillTx/>
                <a:latin typeface="Century Schoolbook"/>
              </a:rPr>
              <a:t>Dendy или Де́нди 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e75c01"/>
                </a:solidFill>
                <a:uFillTx/>
                <a:latin typeface="Century Schoolbook"/>
              </a:rPr>
              <a:t>Nintendo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e75c01"/>
                </a:solidFill>
                <a:uFillTx/>
                <a:latin typeface="Century Schoolbook"/>
              </a:rPr>
              <a:t>Seg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PlayStation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 (</a:t>
            </a: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PlayStation Portable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; </a:t>
            </a: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PlayStation 2, 3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; </a:t>
            </a:r>
            <a:r>
              <a:rPr b="0" lang="ru-RU" sz="33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PlayStation Portable Slim</a:t>
            </a:r>
            <a:r>
              <a:rPr b="0" lang="ru-RU" sz="3300" spc="-1" strike="noStrike">
                <a:solidFill>
                  <a:srgbClr val="e75c01"/>
                </a:solidFill>
                <a:latin typeface="Century Schoolbook"/>
              </a:rPr>
              <a:t>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75c01"/>
                </a:solidFill>
                <a:uFillTx/>
                <a:latin typeface="Century Schoolbook"/>
              </a:rPr>
              <a:t> </a:t>
            </a:r>
            <a:r>
              <a:rPr b="1" i="1" lang="en-US" sz="4000" spc="-1" strike="noStrike">
                <a:solidFill>
                  <a:srgbClr val="e75c01"/>
                </a:solidFill>
                <a:latin typeface="Century Schoolbook"/>
              </a:rPr>
              <a:t>DENDY </a:t>
            </a: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ИЛИ ДЕНДИ</a:t>
            </a:r>
            <a:br>
              <a:rPr sz="29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Dendy выпускалась в начале </a:t>
            </a:r>
            <a:r>
              <a:rPr b="0" lang="ru-RU" sz="36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1990-х годов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компанией «</a:t>
            </a:r>
            <a:r>
              <a:rPr b="0" lang="ru-RU" sz="36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2"/>
              </a:rPr>
              <a:t>Steepler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», собиралась в Тайван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6" descr="C:\Documents and Settings\Kapa\Мои документы\Мои рисунки\dendy.jpg"/>
          <p:cNvPicPr/>
          <p:nvPr/>
        </p:nvPicPr>
        <p:blipFill>
          <a:blip r:embed="rId3"/>
          <a:stretch/>
        </p:blipFill>
        <p:spPr>
          <a:xfrm>
            <a:off x="3929040" y="3357720"/>
            <a:ext cx="3857760" cy="3038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C:\Documents and Settings\Kapa\Мои документы\Мои рисунки\250px-Dendy's_games.jpg"/>
          <p:cNvPicPr/>
          <p:nvPr/>
        </p:nvPicPr>
        <p:blipFill>
          <a:blip r:embed="rId4"/>
          <a:stretch/>
        </p:blipFill>
        <p:spPr>
          <a:xfrm>
            <a:off x="246240" y="3929040"/>
            <a:ext cx="3571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NINTENDO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42600" y="2571480"/>
            <a:ext cx="74674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Для любого опытного геймера это слово – не пустой звук. Приставка NES (Nintendo Entertainment System, или Famicom – первое название прижилось в Штатах, пришла к нам в 1993 году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5" descr="Nintendo Entertainment System"/>
          <p:cNvPicPr/>
          <p:nvPr/>
        </p:nvPicPr>
        <p:blipFill>
          <a:blip r:embed="rId1"/>
          <a:stretch/>
        </p:blipFill>
        <p:spPr>
          <a:xfrm>
            <a:off x="6500880" y="1571760"/>
            <a:ext cx="1333440" cy="904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Nintendo Family Computer (Famicom)"/>
          <p:cNvPicPr/>
          <p:nvPr/>
        </p:nvPicPr>
        <p:blipFill>
          <a:blip r:embed="rId2"/>
          <a:stretch/>
        </p:blipFill>
        <p:spPr>
          <a:xfrm>
            <a:off x="785880" y="857160"/>
            <a:ext cx="20397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5c01"/>
                </a:solidFill>
                <a:latin typeface="Century Schoolbook"/>
              </a:rPr>
              <a:t>SEG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SEGA Master System — 8-битная игровая приставка, выпущенная компанией SEGA в 1986 году в США, и в 1987 году — в Европе и Япони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4" descr="SEGA Master System"/>
          <p:cNvPicPr/>
          <p:nvPr/>
        </p:nvPicPr>
        <p:blipFill>
          <a:blip r:embed="rId1"/>
          <a:stretch/>
        </p:blipFill>
        <p:spPr>
          <a:xfrm>
            <a:off x="5500800" y="428760"/>
            <a:ext cx="243828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75c01"/>
                </a:solidFill>
                <a:latin typeface="Century Schoolbook"/>
              </a:rPr>
              <a:t>SONY PLAYST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Содержимое 3" descr="ps_logo.jpg"/>
          <p:cNvPicPr/>
          <p:nvPr/>
        </p:nvPicPr>
        <p:blipFill>
          <a:blip r:embed="rId1"/>
          <a:stretch/>
        </p:blipFill>
        <p:spPr>
          <a:xfrm>
            <a:off x="500040" y="150012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4"/>
          <p:cNvSpPr/>
          <p:nvPr/>
        </p:nvSpPr>
        <p:spPr>
          <a:xfrm>
            <a:off x="2000160" y="171468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PSP может быть использована для игр, проигрывания цифрового видео и аудио, просмотра Web-страниц, а также для просмотра цифровых фотограф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ВИДЫ </a:t>
            </a:r>
            <a:r>
              <a:rPr b="1" i="1" lang="en-US" sz="4000" spc="-1" strike="noStrike">
                <a:solidFill>
                  <a:srgbClr val="e75c01"/>
                </a:solidFill>
                <a:latin typeface="Century Schoolbook"/>
              </a:rPr>
              <a:t>SONY PLAYST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4" descr="250px-SCPH-30000_vertical"/>
          <p:cNvPicPr/>
          <p:nvPr/>
        </p:nvPicPr>
        <p:blipFill>
          <a:blip r:embed="rId1"/>
          <a:stretch/>
        </p:blipFill>
        <p:spPr>
          <a:xfrm>
            <a:off x="785880" y="1785960"/>
            <a:ext cx="2381040" cy="3171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200px-Playstation_2"/>
          <p:cNvPicPr/>
          <p:nvPr/>
        </p:nvPicPr>
        <p:blipFill>
          <a:blip r:embed="rId2"/>
          <a:stretch/>
        </p:blipFill>
        <p:spPr>
          <a:xfrm>
            <a:off x="3714840" y="1500120"/>
            <a:ext cx="1904760" cy="1133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PLAYSTATION 3"/>
          <p:cNvPicPr/>
          <p:nvPr/>
        </p:nvPicPr>
        <p:blipFill>
          <a:blip r:embed="rId3"/>
          <a:stretch/>
        </p:blipFill>
        <p:spPr>
          <a:xfrm>
            <a:off x="6072120" y="1571760"/>
            <a:ext cx="2048040" cy="2781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250px-Psp1"/>
          <p:cNvPicPr/>
          <p:nvPr/>
        </p:nvPicPr>
        <p:blipFill>
          <a:blip r:embed="rId4"/>
          <a:stretch/>
        </p:blipFill>
        <p:spPr>
          <a:xfrm>
            <a:off x="3357720" y="3857760"/>
            <a:ext cx="3357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ВЫВОДЫ: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начение: Игровые приставки позволяют расширить игровые возможности для детей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Практическая значимость: игровые приставки развивают психические процессы, а также помогают  организовать досуг дете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75c01"/>
                </a:solidFill>
                <a:latin typeface="Century Schoolbook"/>
              </a:rPr>
              <a:t>ИСТОЧНИКИ: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278604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You Tube – Sony Playst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You Tube – Dendy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wikipedia.org/wiki/SEGA</a:t>
            </a:r>
            <a:r>
              <a:rPr b="0" lang="en-US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7758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75c01"/>
                </a:solidFill>
                <a:latin typeface="Century Schoolbook"/>
              </a:rPr>
              <a:t>ОСНОВОПОЛАГАЮЩИЙ ВОПРОС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14240" y="2714400"/>
            <a:ext cx="7467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5c01"/>
                </a:solidFill>
                <a:latin typeface="Century Schoolbook"/>
              </a:rPr>
              <a:t>   </a:t>
            </a:r>
            <a:r>
              <a:rPr b="1" lang="ru-RU" sz="4000" spc="-1" strike="noStrike">
                <a:solidFill>
                  <a:srgbClr val="e75c01"/>
                </a:solidFill>
                <a:latin typeface="Century Schoolbook"/>
              </a:rPr>
              <a:t>Необходимо ли использование игровых технологий в работе с детьми 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5c01"/>
                </a:solidFill>
                <a:latin typeface="Century Schoolbook"/>
              </a:rPr>
              <a:t>ПРОБЛЕМНЫЕ (ПОИСКОВЫЕ) ВОПРОСЫ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Что такое игровые технологии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Какие игровые технологии существуют на сегоднейший день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5c01"/>
                </a:solidFill>
                <a:latin typeface="Century Schoolbook"/>
              </a:rPr>
              <a:t>ПРИМЕНИМОСТЬ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Данная информация актуальна  для студентов, педагогов,  и родителей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ДЕЯТЕЛЬНОСТЬ УЧАЩИХС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Изготовление буклета или открытки с помощью</a:t>
            </a:r>
            <a:r>
              <a:rPr b="0" lang="en-US" sz="36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программы </a:t>
            </a:r>
            <a:r>
              <a:rPr b="0" lang="en-US" sz="3600" spc="-1" strike="noStrike">
                <a:solidFill>
                  <a:srgbClr val="e75c01"/>
                </a:solidFill>
                <a:latin typeface="Century Schoolbook"/>
              </a:rPr>
              <a:t>MS Publish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ОЦЕНКА ДЕЯТЕЛЬНОСТИ УЧАЩИХСЯ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e75c01"/>
                </a:solidFill>
                <a:latin typeface="Century Schoolbook"/>
              </a:rPr>
              <a:t>Презентация  своих буклетов, изготовленных в программе </a:t>
            </a:r>
            <a:r>
              <a:rPr b="0" lang="en-US" sz="4400" spc="-1" strike="noStrike">
                <a:solidFill>
                  <a:srgbClr val="e75c01"/>
                </a:solidFill>
                <a:latin typeface="Century Schoolbook"/>
              </a:rPr>
              <a:t>MS Publisher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7160" y="2428560"/>
            <a:ext cx="74678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75c01"/>
                </a:solidFill>
                <a:latin typeface="Century Schoolbook"/>
              </a:rPr>
              <a:t>СОВРЕМЕННЫЕ ИГРОВЫЕ ТЕХНОЛОГИ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C:\Documents and Settings\Kapa\Мои документы\Мои рисунки\dual_shock.jpg"/>
          <p:cNvPicPr/>
          <p:nvPr/>
        </p:nvPicPr>
        <p:blipFill>
          <a:blip r:embed="rId1"/>
          <a:stretch/>
        </p:blipFill>
        <p:spPr>
          <a:xfrm rot="20782800">
            <a:off x="857160" y="5000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entury Schoolbook"/>
              </a:rPr>
              <a:t>ХОЧЕТСЯ НАЧАТЬ С ЭТИХ СЛОВ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400" y="1785960"/>
            <a:ext cx="74674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Century Schoolbook"/>
              </a:rPr>
              <a:t>Человеческая культура возникла и развертывается в игре, как игра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e75c01"/>
                </a:solidFill>
                <a:latin typeface="Century Schoolbook"/>
              </a:rPr>
              <a:t>Й. Хейзинг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714240" y="1000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Все следующие за дошкольным возрастные периоды со своими ведущими видами деятельности не вытесняют игру, а продолжают включать ее в процесс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28:48Z</dcterms:created>
  <dc:creator>Your User Name</dc:creator>
  <dc:description/>
  <dc:language>en-US</dc:language>
  <cp:lastModifiedBy>Your User Name</cp:lastModifiedBy>
  <dcterms:modified xsi:type="dcterms:W3CDTF">2009-05-29T15:25:27Z</dcterms:modified>
  <cp:revision>49</cp:revision>
  <dc:subject/>
  <dc:title>Слайд 1</dc:title>
</cp:coreProperties>
</file>